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7EB-6666-4A23-B26C-3E055163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BE2-4E2E-432B-9B2D-366016F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D37-47A2-43C9-867A-0B5A065A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685-0E17-4538-8F40-E02FDC5C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5E03-878A-45BC-B88D-15CBFA59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845-D046-4D28-A730-3E3ECC4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875-3C72-49AB-B89A-EE8A094B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C38-5BAD-41AD-8863-AE33B4BB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A051-4448-4BED-8308-283809A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F46A-045E-4135-AA5E-7AF2C661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1A6-BB65-4FCF-8135-E61D40D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1DA-7EE3-455A-BDF8-C9F90DDC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88A-BC72-4819-9249-9582B92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D453-69DB-406A-9CF7-8EF29ED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E9E-C016-4781-A755-57D3378F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71E-1EA3-423C-BB9A-20520743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FDD5-C360-4799-BF36-23A18CA7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31E-0D9F-4520-B354-4C5D751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EB3-3BAB-4569-B670-FF7A7097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767-51B9-4155-A95B-6F65B09B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79B-0D63-4F0A-BCED-081CBC5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5A3-1584-496A-9F49-A5BEC276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DEB-21E8-4F11-A158-483A354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E35-CC76-457E-906C-B29AA00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A748-8B85-4466-B6C1-A4E7955753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11A-A568-4C9A-A428-0E15D7516E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pernatural" TargetMode="External"/><Relationship Id="rId2" Type="http://schemas.openxmlformats.org/officeDocument/2006/relationships/hyperlink" Target="http://en.wikipedia.org/wiki/Ghost" TargetMode="External"/><Relationship Id="rId3" Type="http://schemas.openxmlformats.org/officeDocument/2006/relationships/hyperlink" Target="http://en.wikipedia.org/wiki/Haunted_house" TargetMode="External"/><Relationship Id="rId4" Type="http://schemas.openxmlformats.org/officeDocument/2006/relationships/hyperlink" Target="http://en.wikipedia.org/wiki/Gothic_architecture" TargetMode="External"/><Relationship Id="rId5" Type="http://schemas.openxmlformats.org/officeDocument/2006/relationships/hyperlink" Target="http://en.wikipedia.org/wiki/Castle" TargetMode="External"/><Relationship Id="rId6" Type="http://schemas.openxmlformats.org/officeDocument/2006/relationships/hyperlink" Target="http://en.wikipedia.org/wiki/Darkness" TargetMode="External"/><Relationship Id="rId7" Type="http://schemas.openxmlformats.org/officeDocument/2006/relationships/hyperlink" Target="http://en.wikipedia.org/wiki/Death" TargetMode="External"/><Relationship Id="rId8" Type="http://schemas.openxmlformats.org/officeDocument/2006/relationships/hyperlink" Target="http://en.wikipedia.org/wiki/Decomposition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citing Englis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y 5-Fresh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 ass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-Fortun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ence-The other party go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-story following Poe’s example. (At least one p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-Why you didn’t deserve what happened to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sentences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ne l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work that we didn’t get to yester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ited states had controlled the land around the Panama canal sense November 1903 but on December 31 1999 that control returned to Pa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 Mitchelle hole address is 209 Buena Vista Avenue Northport NE 68409 but you listed the street address as 209 Buena Vista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s:scale::__________:no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dpiper:smooth:: ____________:burn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really sick and tired of your mess. It’s embarrassing to walk into our dorm and see your stuff everywhere. If you don’t clean up I am moving ou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r Mont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so tired of your mess everywhere, what can we do to solve the problem. I am willing to work with you in any way you need. Let me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F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nent features of Gothic fiction include terror (both psychological and physical), mystery, the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upernatu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gho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aunted hou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Gothic architec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cast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dar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d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dec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oubles, madness, secrets, and hereditary cur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thic Archite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5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The Cask of Amontillado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5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ato never asks why he is being killed, why do you think this 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Montresor trick Fortunato into coming to the vault with hi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s the perfect crime? Does Montresor seem like he has closure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seems the most like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-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Au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-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-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R- ant, A- young boy, F- verbal plea, T- convincing the boy not to step on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3:24:28Z</dcterms:created>
  <dc:creator>Angie</dc:creator>
  <dc:description/>
  <dc:language>en-US</dc:language>
  <cp:lastModifiedBy>Angie McCall</cp:lastModifiedBy>
  <dcterms:modified xsi:type="dcterms:W3CDTF">2011-08-26T15:47:51Z</dcterms:modified>
  <cp:revision>3</cp:revision>
  <dc:subject/>
  <dc:title>Exciting English</dc:title>
</cp:coreProperties>
</file>